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A6366-6EE4-4970-A71F-C4F306BAA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DFD0-4604-40F4-9008-AE46A0621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DC5B-40F5-4109-89E3-0283CF9D0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3611-2646-4F5C-84E3-72FCC0C9AC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BCC0-3A57-4F57-836B-BDB3FAF16C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BAC88-37CE-43FC-811E-07355FA5E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5C941-DFA1-4A5A-9616-FD22BFFF3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F395-B4D1-4F99-9CB6-0BC3878DA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FD28-A468-4C0F-BFC1-0020B197E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68DC9-3383-470B-929B-FC3DD9F83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69020-354B-449E-9504-FD79F7DBD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926A-3732-4501-8AB4-8A9A950A0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C62E-0DAB-468A-92B1-457806D9B6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reedigitalphotos.net/images/Interiors_g380-Empty_Room_With_Gallery_p82136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esources.curriculum.org/secretariat/coplanning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4F84-73B5-4FFE-BB18-588547FD3A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Breakout 6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Connecting our Learning with Different Representation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tails – 36 km rac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rkers every twelfth of the route’s tota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water stations equally spaced along the way and the last is at the finis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year Rachel and Mark both ran 1/2 of the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 Rachel knows she ran 7/12 of the route because she counted the markers and stopped at the seventh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ran to the fifth wat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kilometres did they run and how much further did they run compared to las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37DE-E72C-4AA4-8C63-32B00AEEF0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 Solu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mathematical learning to sh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8BBF-0BB2-4630-8CEB-237074047C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900057318.WMF"/>
          <p:cNvPicPr/>
          <p:nvPr/>
        </p:nvPicPr>
        <p:blipFill>
          <a:blip r:embed="rId1"/>
          <a:stretch/>
        </p:blipFill>
        <p:spPr>
          <a:xfrm>
            <a:off x="4876920" y="2286000"/>
            <a:ext cx="266364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instorm at your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hematics did we engage in as we solved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rategies surfaced in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solutions lead to emergent thinking about multiplication and division of f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8FD7-53E2-43D0-A03B-28903D041F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a number line an effective model for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models did you notice in the gallery wal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5DC5-8FDB-4210-BB03-0ACFCF0ADE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 Questions con’t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engage students in a contextual problem that leads to multiplicative thinking as related to fractions and to considering division of fractions prior to teaching algorithms for these opera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or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8683-5D8A-4B47-8A66-F4564FDFA0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2C66-2BDB-435F-9807-B965DBA61E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419720" y="457200"/>
            <a:ext cx="4390920" cy="4781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609480" y="16765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from Cath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– Possible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A192-A031-46EC-8479-038BE1ECF3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86736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– Possible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75C4-68F8-4F0B-8440-7F41B76DB7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16292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0342-EA99-4E2F-9E43-8E693E9DD9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94368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7317-259C-4B87-BB5A-BC10414494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857680" cy="2533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419720" y="304920"/>
            <a:ext cx="4257720" cy="53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irthday Budd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 the people who have the same birthday month a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into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up a 0 – 4 number line and som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4279-CDB4-47FA-933D-3FF4B7CD17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F6C1-F303-46B1-84EE-4851F620FE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rdering and Compar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the following fractions on your number 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½,   ¾,   5/6,   3 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/4,   16/4,   15/5,    3 3/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6,   1 ½,   1 5/10,   2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E05E-6ABE-402F-B9F8-94DA5EFB0A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 /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C014-9514-480C-B47A-5FD7EBA227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http://c95711.r11.cf3.rackcdn.com/Gallery_The_picture_blue_w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523880"/>
            <a:ext cx="5410080" cy="35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Preview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unpack key understandings about fr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address the continuum of learning that might exist in a Grade 6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the teacher’s questio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student representations and dialog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CA0B-1562-4A3A-B1F8-84B869B546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MH900434799.JPG"/>
          <p:cNvPicPr/>
          <p:nvPr/>
        </p:nvPicPr>
        <p:blipFill>
          <a:blip r:embed="rId1"/>
          <a:stretch/>
        </p:blipFill>
        <p:spPr>
          <a:xfrm>
            <a:off x="4343400" y="16765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NS The Three Part Lesson in Mathematics; Supporting Stu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3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esources.curriculum.org/secretariat/coplannin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 The Classroo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F6FB-1F39-4A0C-9842-0324B75494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unpack key understandings about fr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address the continuum of learning that might exist in a Grade 6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the teacher’s questio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notice about student representations and dialog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3087-A841-4E90-BEF3-0F2AF9F36B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unning for Fun</a:t>
            </a:r>
            <a:br>
              <a:rPr sz="4400"/>
            </a:br>
            <a:r>
              <a:rPr b="0" lang="en-US" sz="2400" spc="-1" strike="noStrike">
                <a:solidFill>
                  <a:srgbClr val="2b5ca9"/>
                </a:solidFill>
                <a:latin typeface="Arial"/>
              </a:rPr>
              <a:t>Cathy Fosnot; </a:t>
            </a:r>
            <a:r>
              <a:rPr b="0" i="1" lang="en-US" sz="2400" spc="-1" strike="noStrike">
                <a:solidFill>
                  <a:srgbClr val="2b5ca9"/>
                </a:solidFill>
                <a:latin typeface="Arial"/>
              </a:rPr>
              <a:t>Contexts for Learning Mathematics</a:t>
            </a:r>
            <a:endParaRPr b="0" lang="en-US" sz="2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story problem to th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3235-4505-41B9-B693-2EF1182251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P900424397.JPG"/>
          <p:cNvPicPr/>
          <p:nvPr/>
        </p:nvPicPr>
        <p:blipFill>
          <a:blip r:embed="rId1"/>
          <a:stretch/>
        </p:blipFill>
        <p:spPr>
          <a:xfrm>
            <a:off x="3429000" y="2362320"/>
            <a:ext cx="491508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tails – 26 mile rac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rkers every twelfth of the route’s tota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water stations equally spaced along the way and the last is at the finis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year Rachel and Mark both ran 1/2 of the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 Rachel knows she ran 7/12 of the route because she counted the markers and stopped at the seventh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ran to the fifth wat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miles did they run and how much further did they run compared to las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48A8-60CF-425B-BD73-E1A6F96771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Pat Milot</cp:lastModifiedBy>
  <dcterms:modified xsi:type="dcterms:W3CDTF">2012-07-12T21:01:34Z</dcterms:modified>
  <cp:revision>39</cp:revision>
  <dc:subject/>
  <dc:title>&lt;Title&gt;</dc:title>
</cp:coreProperties>
</file>